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08F484-4098-48D1-A7A0-5544C88F81C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88439A-C710-42B7-BC86-FABD4E683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A547D2-D79B-495D-8A4F-555E3F979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2060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7452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6668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2060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7452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9A3F82-9E1A-48B6-B36A-11343FFCEDA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514240" y="22824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E3293E-0E9B-43E4-99D5-07C22C13B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060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37452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06668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72060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37452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BDECC4-64A6-4B83-9710-DE95007D1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D389CC-4CCB-4853-A734-B58530C18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6C2CC6-E2B8-4FBE-92BE-852328002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514240" y="22824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F3CEC6-5B18-43B9-B91B-7112B5778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84B9EA-99DF-4CC8-B65E-5A6286B38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92104A-B5AA-4FBD-A2AF-06FC91C1D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A933E8-F4B4-4878-A08C-1A60B25D6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" name="">
            <a:hlinkClick r:id="" action="ppaction://hlinkshowjump?jump=firstslide"/>
          </p:cNvPr>
          <p:cNvSpPr/>
          <p:nvPr/>
        </p:nvSpPr>
        <p:spPr>
          <a:xfrm>
            <a:off x="7527960" y="6499080"/>
            <a:ext cx="11271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ecff"/>
                </a:solidFill>
                <a:latin typeface="Arial"/>
              </a:rPr>
              <a:t>Jump to first page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previousslide"/>
          </p:cNvPr>
          <p:cNvSpPr/>
          <p:nvPr/>
        </p:nvSpPr>
        <p:spPr>
          <a:xfrm>
            <a:off x="8637480" y="6551640"/>
            <a:ext cx="131760" cy="15408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nextslide"/>
          </p:cNvPr>
          <p:cNvSpPr/>
          <p:nvPr/>
        </p:nvSpPr>
        <p:spPr>
          <a:xfrm>
            <a:off x="8866080" y="6553080"/>
            <a:ext cx="131760" cy="15408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93360" y="6400440"/>
            <a:ext cx="106524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93720" y="6553080"/>
            <a:ext cx="84456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footer&gt;</a:t>
            </a: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 -</a:t>
            </a:r>
            <a:fld id="{98AF774F-A8BF-417F-83EB-D3515188F915}" type="slidenum">
              <a:rPr b="0" lang="en-US" sz="9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066680" y="1523880"/>
            <a:ext cx="8077320" cy="0"/>
          </a:xfrm>
          <a:prstGeom prst="line">
            <a:avLst/>
          </a:prstGeom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496880" y="1676520"/>
            <a:ext cx="764712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590920" y="456840"/>
            <a:ext cx="6248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3"/>
          </p:nvPr>
        </p:nvSpPr>
        <p:spPr>
          <a:xfrm>
            <a:off x="281448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4"/>
          </p:nvPr>
        </p:nvSpPr>
        <p:spPr>
          <a:xfrm>
            <a:off x="141120" y="6400440"/>
            <a:ext cx="26654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191120" y="5029200"/>
            <a:ext cx="4519440" cy="11286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590920" y="456840"/>
            <a:ext cx="6248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RNDC and TSIG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oe Able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abley@isc.or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slideset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Using TSIG to protect AXF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eriving a secre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dnssec-keygen -a ... -b ... -n... name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nfiguring the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n named.conf file, same syntax as for rndc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Courier New"/>
              </a:rPr>
              <a:t>key { algorithm ...; secret ...;}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king use of the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n named.conf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Courier New"/>
              </a:rPr>
              <a:t>server x { key ...; }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here 'x' is an IP number of the other serve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EF94E6-71A7-408C-92E0-58843D09AC49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figuration Exampl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3" name=""/>
          <p:cNvSpPr/>
          <p:nvPr/>
        </p:nvSpPr>
        <p:spPr>
          <a:xfrm>
            <a:off x="533520" y="1676520"/>
            <a:ext cx="45720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Times New Roman"/>
              </a:rPr>
              <a:t>Primary server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9999"/>
                </a:solidFill>
                <a:latin typeface="Times New Roman"/>
                <a:ea typeface="Osaka"/>
              </a:rPr>
              <a:t>10.33.40.46</a:t>
            </a:r>
            <a:endParaRPr b="0" lang="en-US" sz="19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key ns1-ns2.zone.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algorithm hmac-md5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secret "APlaceToBe"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server 10.33.40.35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keys {ns1-ns2.zone.;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zone "my.zone.test."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type master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file...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allow-transfer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key ns1-ns2.zone.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key ns1-ns3.zone.;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267080" y="1676520"/>
            <a:ext cx="45720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Times New Roman"/>
              </a:rPr>
              <a:t>Secondary server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9999"/>
                </a:solidFill>
                <a:latin typeface="Times New Roman"/>
                <a:ea typeface="Osaka"/>
              </a:rPr>
              <a:t>10.33.40.35</a:t>
            </a:r>
            <a:endParaRPr b="0" lang="en-US" sz="19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key ns1-ns2.zone.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algorithm hmac-md5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secret "APlaceToBe"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server 10.33.40.46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keys {ns1-ns2.zone.;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zone "my.zone.test."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type slave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file...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masters {10.33.40.46;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allow-transfer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key ns1-ns2.zone.;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27280" y="5907240"/>
            <a:ext cx="72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gain, the secret looks okay, but is purposely invalid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BF7DF4-4799-447B-95BA-4CE1D17EF3BA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IME!!!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SIG is time sensitive - to stop repla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essage protection expires in 5 minu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ke sure time is synchroniz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For testing, set the 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n operations, (secure) NTP is need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E34250-B7E6-4BD0-A007-C6A8FCA58B62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ther uses of TSI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SIG was designed for other purpo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rotecting sensitive stub resolver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s has proven hard to accomplis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ynamic Upd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iscussed later, securing this relies on TSI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8948FB-D45E-4C99-851D-16B5D259C0F3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lternatives to TSI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G (0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ublic key approach to same servic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as potential, but not much experience ye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eans to start with SIG(0) and wind up with TSI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lso, Microsoft uses this with Kerberos via GSSAP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FF5BCD-38B3-4DBE-AC63-479EBD136948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is RNDC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mote Name Daemon Controll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and-line control of named daem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ually on same host, can be across hos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7DF597-2AC3-4DE4-ACDD-3AB9591C420D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figuring RNDC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"rndc-conf" generates lines to be added to two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amed.con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rndc.con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53A867-DFC0-4008-8E0B-13309A97D0A8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Enabling RNDC in the serve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key defin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key rndc_key {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secret "</a:t>
            </a: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dY7/uIiR0fKGvi5z50+Q==</a:t>
            </a: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"; algorithm hmac-md5;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arning: example secret looks good but is invalid (don't copy it!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ntrols statem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controls {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inet 127.0.0.1 port 953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       </a:t>
            </a: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allow { 127.0.0.1; }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       </a:t>
            </a: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keys { "rndc-key"; };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22C178-84F3-4FB9-B9DF-F5B64DA2768D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Using an rndc.conf fil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/etc/rndc.conf specifies defaults for rnd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.g.,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key "rndc-key" {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algorithm hmac-md5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secret "dY7/uIiR0fKGvi5z50+Q=="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options {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default-key "rndc-key"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default-server 127.0.0.1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default-port 953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DD0EA9-AD40-436E-B3DA-7BA532F39EA0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can be done with RNDC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ndc stop - kills serv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ndc status - prints some informa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ndc stats - generates stat file (named.stat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ndc reload - refresh zone(s), w/varia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ndc trace - increases debug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ndc flush - removes cached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commands in the AR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E242E3-0670-47CD-AE1E-3037C1EED4CA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is TSIG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mechanism for protecting a message from a resolver to server and vice vers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keyed-hash is applied (like a digital signature) so recipient can verify messa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ased on a shared secret - both sender and reciever are configured with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E1FCBE-A3D1-4DD2-880D-719828B7347E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SIG and Message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1" name=""/>
          <p:cNvSpPr/>
          <p:nvPr/>
        </p:nvSpPr>
        <p:spPr>
          <a:xfrm>
            <a:off x="2895480" y="1828800"/>
            <a:ext cx="2438640" cy="838080"/>
          </a:xfrm>
          <a:prstGeom prst="rect">
            <a:avLst/>
          </a:prstGeom>
          <a:solidFill>
            <a:srgbClr val="cecece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NS Head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895480" y="2666880"/>
            <a:ext cx="2438640" cy="838440"/>
          </a:xfrm>
          <a:prstGeom prst="rect">
            <a:avLst/>
          </a:prstGeom>
          <a:solidFill>
            <a:srgbClr val="cecece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Question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895480" y="3505320"/>
            <a:ext cx="2438640" cy="838080"/>
          </a:xfrm>
          <a:prstGeom prst="rect">
            <a:avLst/>
          </a:prstGeom>
          <a:solidFill>
            <a:srgbClr val="cecece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nsw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895480" y="4343400"/>
            <a:ext cx="2438640" cy="838080"/>
          </a:xfrm>
          <a:prstGeom prst="rect">
            <a:avLst/>
          </a:prstGeom>
          <a:solidFill>
            <a:srgbClr val="cecece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uthority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895480" y="5181480"/>
            <a:ext cx="2438640" cy="914400"/>
          </a:xfrm>
          <a:prstGeom prst="rect">
            <a:avLst/>
          </a:prstGeom>
          <a:solidFill>
            <a:srgbClr val="cecece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dditional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&amp; TSIG data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666880" y="1752480"/>
            <a:ext cx="3353040" cy="3886200"/>
          </a:xfrm>
          <a:prstGeom prst="rect">
            <a:avLst/>
          </a:prstGeom>
          <a:noFill/>
          <a:ln w="38160">
            <a:solidFill>
              <a:srgbClr val="01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397480" y="2743200"/>
            <a:ext cx="1549440" cy="155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NS’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Original Message Format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1E69AE-5148-4CD4-8888-6DDC8DB8A55C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Names and Secret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SIG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-27432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 name is given to the key, the name is what is transmitted in the message (so receiver knows what key the sender used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SIG secret valu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-27432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 value determined during key gener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-27432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Usually seen in Base64 encod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'Looks' like the rndc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-27432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IND uses same interface for TSIG and RNDC key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5F65A0-C6C1-460C-A653-389ACC9D8EBA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31T16:17:50Z</dcterms:created>
  <dc:creator>edward lewis</dc:creator>
  <dc:description/>
  <dc:language>en-US</dc:language>
  <cp:lastModifiedBy>Marmaduke Wildebeeste</cp:lastModifiedBy>
  <cp:lastPrinted>2003-02-20T08:17:40Z</cp:lastPrinted>
  <dcterms:modified xsi:type="dcterms:W3CDTF">2003-06-01T20:50:02Z</dcterms:modified>
  <cp:revision>25</cp:revision>
  <dc:subject/>
  <dc:title>PowerPoint Presentation  -  RNDC and TSIG</dc:title>
</cp:coreProperties>
</file>