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615600" y="256680"/>
            <a:ext cx="555948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2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1680" cy="444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040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516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564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040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516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4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8920" y="0"/>
            <a:ext cx="8961480" cy="42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4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39800" indent="-282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3" marL="15588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4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5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6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752480" y="3527280"/>
            <a:ext cx="38862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519360" y="281304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376360" y="6284880"/>
            <a:ext cx="522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Primo Rapporto AAAAAA sull’AAA nella AA locale in Itali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28 Novembre 2067– Slide </a:t>
            </a:r>
            <a:fld id="{BC36A2BB-0395-4617-9BB8-9F34298C6DA1}" type="slidenum">
              <a:rPr b="1" lang="en-GB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50920" y="6165720"/>
            <a:ext cx="8642160" cy="1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ampione di enti intervistati e rappresentatività sull’univers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1125360"/>
            <a:ext cx="3556080" cy="4104000"/>
            <a:chOff x="0" y="1125360"/>
            <a:chExt cx="3556080" cy="4104000"/>
          </a:xfrm>
        </p:grpSpPr>
        <p:grpSp>
          <p:nvGrpSpPr>
            <p:cNvPr id="50" name=""/>
            <p:cNvGrpSpPr/>
            <p:nvPr/>
          </p:nvGrpSpPr>
          <p:grpSpPr>
            <a:xfrm>
              <a:off x="0" y="1125360"/>
              <a:ext cx="3556080" cy="4104000"/>
              <a:chOff x="0" y="1125360"/>
              <a:chExt cx="3556080" cy="4104000"/>
            </a:xfrm>
          </p:grpSpPr>
          <p:sp>
            <p:nvSpPr>
              <p:cNvPr id="51" name=""/>
              <p:cNvSpPr/>
              <p:nvPr/>
            </p:nvSpPr>
            <p:spPr>
              <a:xfrm>
                <a:off x="611280" y="1125360"/>
                <a:ext cx="2448000" cy="4597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ff3300"/>
                </a:solidFill>
                <a:miter/>
              </a:ln>
              <a:effectLst>
                <a:outerShdw dist="107932" dir="2700000" blurRad="0" rotWithShape="0">
                  <a:srgbClr val="ff33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2400" spc="-1" strike="noStrike">
                    <a:solidFill>
                      <a:srgbClr val="0000cc"/>
                    </a:solidFill>
                    <a:latin typeface="Arial"/>
                  </a:rPr>
                  <a:t>Campione</a:t>
                </a: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52" name=""/>
              <p:cNvGrpSpPr/>
              <p:nvPr/>
            </p:nvGrpSpPr>
            <p:grpSpPr>
              <a:xfrm>
                <a:off x="0" y="1628640"/>
                <a:ext cx="3556080" cy="3600720"/>
                <a:chOff x="0" y="1628640"/>
                <a:chExt cx="3556080" cy="3600720"/>
              </a:xfrm>
            </p:grpSpPr>
            <p:sp>
              <p:nvSpPr>
                <p:cNvPr id="53" name=""/>
                <p:cNvSpPr/>
                <p:nvPr/>
              </p:nvSpPr>
              <p:spPr>
                <a:xfrm>
                  <a:off x="1119240" y="1628640"/>
                  <a:ext cx="1169640" cy="82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Comunità 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montane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20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4" name=""/>
                <p:cNvGrpSpPr/>
                <p:nvPr/>
              </p:nvGrpSpPr>
              <p:grpSpPr>
                <a:xfrm>
                  <a:off x="0" y="1865160"/>
                  <a:ext cx="3556080" cy="3364200"/>
                  <a:chOff x="0" y="1865160"/>
                  <a:chExt cx="3556080" cy="3364200"/>
                </a:xfrm>
              </p:grpSpPr>
              <p:graphicFrame>
                <p:nvGraphicFramePr>
                  <p:cNvPr id="55" name=""/>
                  <p:cNvGraphicFramePr/>
                  <p:nvPr/>
                </p:nvGraphicFramePr>
                <p:xfrm>
                  <a:off x="0" y="1994040"/>
                  <a:ext cx="3556080" cy="3235320"/>
                </p:xfrm>
                <a:graphic>
                  <a:graphicData uri="http://schemas.openxmlformats.org/presentationml/2006/ole">
                    <p:oleObj r:id="rId1" spid="">
                      <p:embed/>
                      <p:pic>
                        <p:nvPicPr>
                          <p:cNvPr id="56" name="" descr=""/>
                          <p:cNvPicPr/>
                          <p:nvPr/>
                        </p:nvPicPr>
                        <p:blipFill>
                          <a:blip r:embed="rId2"/>
                          <a:stretch/>
                        </p:blipFill>
                        <p:spPr>
                          <a:xfrm>
                            <a:off x="0" y="1994040"/>
                            <a:ext cx="3556080" cy="323532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sp>
                <p:nvSpPr>
                  <p:cNvPr id="57" name=""/>
                  <p:cNvSpPr/>
                  <p:nvPr/>
                </p:nvSpPr>
                <p:spPr>
                  <a:xfrm>
                    <a:off x="182880" y="4600440"/>
                    <a:ext cx="9900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Comu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438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182520" y="2008080"/>
                    <a:ext cx="109368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Province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26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flipV="1">
                    <a:off x="896760" y="2438280"/>
                    <a:ext cx="511200" cy="293760"/>
                  </a:xfrm>
                  <a:prstGeom prst="line">
                    <a:avLst/>
                  </a:prstGeom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34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24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2271600" y="1865160"/>
                    <a:ext cx="9792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Regio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13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1" name=""/>
                  <p:cNvGrpSpPr/>
                  <p:nvPr/>
                </p:nvGrpSpPr>
                <p:grpSpPr>
                  <a:xfrm>
                    <a:off x="2047680" y="2297160"/>
                    <a:ext cx="508320" cy="287280"/>
                    <a:chOff x="2047680" y="2297160"/>
                    <a:chExt cx="508320" cy="287280"/>
                  </a:xfrm>
                </p:grpSpPr>
                <p:sp>
                  <p:nvSpPr>
                    <p:cNvPr id="62" name=""/>
                    <p:cNvSpPr/>
                    <p:nvPr/>
                  </p:nvSpPr>
                  <p:spPr>
                    <a:xfrm>
                      <a:off x="2195640" y="2297160"/>
                      <a:ext cx="360360" cy="144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" name=""/>
                    <p:cNvSpPr/>
                    <p:nvPr/>
                  </p:nvSpPr>
                  <p:spPr>
                    <a:xfrm flipH="1">
                      <a:off x="2047680" y="2297160"/>
                      <a:ext cx="152280" cy="28728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64" name=""/>
            <p:cNvSpPr/>
            <p:nvPr/>
          </p:nvSpPr>
          <p:spPr>
            <a:xfrm>
              <a:off x="1042920" y="3213000"/>
              <a:ext cx="1873440" cy="1224000"/>
            </a:xfrm>
            <a:prstGeom prst="irregularSeal2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Totale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497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268560" y="1125360"/>
            <a:ext cx="8876880" cy="4824720"/>
            <a:chOff x="268560" y="1125360"/>
            <a:chExt cx="8876880" cy="4824720"/>
          </a:xfrm>
        </p:grpSpPr>
        <p:sp>
          <p:nvSpPr>
            <p:cNvPr id="66" name=""/>
            <p:cNvSpPr/>
            <p:nvPr/>
          </p:nvSpPr>
          <p:spPr>
            <a:xfrm>
              <a:off x="324000" y="5445000"/>
              <a:ext cx="8640720" cy="505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01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268560" y="1125360"/>
              <a:ext cx="8876880" cy="4728600"/>
              <a:chOff x="268560" y="1125360"/>
              <a:chExt cx="8876880" cy="4728600"/>
            </a:xfrm>
          </p:grpSpPr>
          <p:sp>
            <p:nvSpPr>
              <p:cNvPr id="68" name=""/>
              <p:cNvSpPr/>
              <p:nvPr/>
            </p:nvSpPr>
            <p:spPr>
              <a:xfrm>
                <a:off x="4890960" y="4869000"/>
                <a:ext cx="4243680" cy="3373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Periodo d’indagine : Febbraio-Aprile 2004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68560" y="5516640"/>
                <a:ext cx="8355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Sono escluse dal perimetro d’analisi  ASL, Aziende Ospedaliere Pubbliche e Utilities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70" name=""/>
              <p:cNvGrpSpPr/>
              <p:nvPr/>
            </p:nvGrpSpPr>
            <p:grpSpPr>
              <a:xfrm>
                <a:off x="3492360" y="1125360"/>
                <a:ext cx="5653080" cy="3461040"/>
                <a:chOff x="3492360" y="1125360"/>
                <a:chExt cx="5653080" cy="3461040"/>
              </a:xfrm>
            </p:grpSpPr>
            <p:sp>
              <p:nvSpPr>
                <p:cNvPr id="71" name=""/>
                <p:cNvSpPr/>
                <p:nvPr/>
              </p:nvSpPr>
              <p:spPr>
                <a:xfrm>
                  <a:off x="3851280" y="1125360"/>
                  <a:ext cx="5256360" cy="45972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ff3300"/>
                  </a:solidFill>
                  <a:miter/>
                </a:ln>
                <a:effectLst>
                  <a:outerShdw dist="107932" dir="2700000" blurRad="0" rotWithShape="0">
                    <a:srgbClr val="ff33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2400" spc="-1" strike="noStrike">
                      <a:solidFill>
                        <a:srgbClr val="0000cc"/>
                      </a:solidFill>
                      <a:latin typeface="Arial"/>
                    </a:rPr>
                    <a:t>Rappresentatività sull’universo</a:t>
                  </a:r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72" name=""/>
                <p:cNvGraphicFramePr/>
                <p:nvPr/>
              </p:nvGraphicFramePr>
              <p:xfrm>
                <a:off x="3492360" y="2276640"/>
                <a:ext cx="5653080" cy="2309760"/>
              </p:xfrm>
              <a:graphic>
                <a:graphicData uri="http://schemas.openxmlformats.org/presentationml/2006/ole">
                  <p:oleObj progId="Excel.Sheet.12" r:id="rId3" spid="">
                    <p:embed/>
                    <p:pic>
                      <p:nvPicPr>
                        <p:cNvPr id="73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3492360" y="2276640"/>
                          <a:ext cx="5653080" cy="23097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</p:grpSp>
      <p:sp>
        <p:nvSpPr>
          <p:cNvPr id="74" name=""/>
          <p:cNvSpPr/>
          <p:nvPr/>
        </p:nvSpPr>
        <p:spPr>
          <a:xfrm>
            <a:off x="4427640" y="2133720"/>
            <a:ext cx="936360" cy="25905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" dur="500" fill="hold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 fill="hold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pplicazioni AAA presenti nei Comun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324000" y="1035000"/>
            <a:ext cx="8596080" cy="4916520"/>
            <a:chOff x="324000" y="1035000"/>
            <a:chExt cx="8596080" cy="4916520"/>
          </a:xfrm>
        </p:grpSpPr>
        <p:graphicFrame>
          <p:nvGraphicFramePr>
            <p:cNvPr id="77" name=""/>
            <p:cNvGraphicFramePr/>
            <p:nvPr/>
          </p:nvGraphicFramePr>
          <p:xfrm>
            <a:off x="324000" y="1035000"/>
            <a:ext cx="8596080" cy="4915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24000" y="1035000"/>
                      <a:ext cx="8596080" cy="4915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9" name=""/>
            <p:cNvSpPr/>
            <p:nvPr/>
          </p:nvSpPr>
          <p:spPr>
            <a:xfrm>
              <a:off x="324000" y="1035000"/>
              <a:ext cx="8596080" cy="49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858960" y="5867280"/>
            <a:ext cx="123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cc"/>
                </a:solidFill>
                <a:latin typeface="Arial"/>
              </a:rPr>
              <a:t>Fonte: AAAA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8440" y="981000"/>
            <a:ext cx="166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cc"/>
                </a:solidFill>
                <a:latin typeface="Arial"/>
              </a:rPr>
              <a:t>Risposte multiple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5148360" y="5013360"/>
            <a:ext cx="3816360" cy="1008000"/>
            <a:chOff x="5148360" y="5013360"/>
            <a:chExt cx="3816360" cy="1008000"/>
          </a:xfrm>
        </p:grpSpPr>
        <p:sp>
          <p:nvSpPr>
            <p:cNvPr id="83" name=""/>
            <p:cNvSpPr/>
            <p:nvPr/>
          </p:nvSpPr>
          <p:spPr>
            <a:xfrm>
              <a:off x="5364000" y="5372280"/>
              <a:ext cx="360360" cy="2174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364000" y="5730840"/>
              <a:ext cx="360360" cy="217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21480" y="5300640"/>
              <a:ext cx="3228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Amministrativo/Contabile/ Person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723280" y="5661000"/>
              <a:ext cx="118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verticali 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148360" y="5013360"/>
              <a:ext cx="3816360" cy="10080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221440" y="5025960"/>
              <a:ext cx="107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egenda: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dur="indefinite" fill="hold">
                      <p:stCondLst>
                        <p:cond delay="0"/>
                      </p:stCondLst>
                      <p:childTnLst>
                        <p:par>
                          <p:cTn id="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" dur="500" fill="hold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0" y="981000"/>
            <a:ext cx="9144000" cy="1584360"/>
            <a:chOff x="0" y="981000"/>
            <a:chExt cx="9144000" cy="1584360"/>
          </a:xfrm>
        </p:grpSpPr>
        <p:sp>
          <p:nvSpPr>
            <p:cNvPr id="90" name=""/>
            <p:cNvSpPr/>
            <p:nvPr/>
          </p:nvSpPr>
          <p:spPr>
            <a:xfrm>
              <a:off x="0" y="1125360"/>
              <a:ext cx="9144000" cy="1440000"/>
            </a:xfrm>
            <a:prstGeom prst="rect">
              <a:avLst/>
            </a:prstGeom>
            <a:solidFill>
              <a:srgbClr val="ccecff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301240" y="981000"/>
              <a:ext cx="842040" cy="307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mu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0" y="2565360"/>
            <a:ext cx="9144000" cy="1163520"/>
            <a:chOff x="0" y="2565360"/>
            <a:chExt cx="9144000" cy="1163520"/>
          </a:xfrm>
        </p:grpSpPr>
        <p:sp>
          <p:nvSpPr>
            <p:cNvPr id="93" name=""/>
            <p:cNvSpPr/>
            <p:nvPr/>
          </p:nvSpPr>
          <p:spPr>
            <a:xfrm>
              <a:off x="0" y="2616120"/>
              <a:ext cx="9144000" cy="111276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210520" y="2565360"/>
              <a:ext cx="933480" cy="3070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Provinc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0" y="3840120"/>
            <a:ext cx="9144000" cy="1114560"/>
            <a:chOff x="0" y="3840120"/>
            <a:chExt cx="9144000" cy="1114560"/>
          </a:xfrm>
        </p:grpSpPr>
        <p:sp>
          <p:nvSpPr>
            <p:cNvPr id="96" name=""/>
            <p:cNvSpPr/>
            <p:nvPr/>
          </p:nvSpPr>
          <p:spPr>
            <a:xfrm>
              <a:off x="0" y="3840120"/>
              <a:ext cx="9144000" cy="1114560"/>
            </a:xfrm>
            <a:prstGeom prst="rect">
              <a:avLst/>
            </a:prstGeom>
            <a:solidFill>
              <a:srgbClr val="ffcc66"/>
            </a:solidFill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093160" y="4149720"/>
              <a:ext cx="1050840" cy="5202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Comunità 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montan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0" y="5051520"/>
            <a:ext cx="9144000" cy="1185840"/>
            <a:chOff x="0" y="5051520"/>
            <a:chExt cx="9144000" cy="1185840"/>
          </a:xfrm>
        </p:grpSpPr>
        <p:sp>
          <p:nvSpPr>
            <p:cNvPr id="99" name=""/>
            <p:cNvSpPr/>
            <p:nvPr/>
          </p:nvSpPr>
          <p:spPr>
            <a:xfrm>
              <a:off x="0" y="5051520"/>
              <a:ext cx="9144000" cy="1185840"/>
            </a:xfrm>
            <a:prstGeom prst="rect">
              <a:avLst/>
            </a:prstGeom>
            <a:solidFill>
              <a:srgbClr val="ffccff"/>
            </a:solidFill>
            <a:ln w="2844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310600" y="5084640"/>
              <a:ext cx="833040" cy="30708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Regio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rincipali Investimenti AAA previsti per il 2004/2005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-181080" y="981000"/>
            <a:ext cx="9688680" cy="5481000"/>
            <a:chOff x="-181080" y="981000"/>
            <a:chExt cx="9688680" cy="5481000"/>
          </a:xfrm>
        </p:grpSpPr>
        <p:grpSp>
          <p:nvGrpSpPr>
            <p:cNvPr id="103" name=""/>
            <p:cNvGrpSpPr/>
            <p:nvPr/>
          </p:nvGrpSpPr>
          <p:grpSpPr>
            <a:xfrm>
              <a:off x="3132000" y="981000"/>
              <a:ext cx="6375600" cy="5421240"/>
              <a:chOff x="3132000" y="981000"/>
              <a:chExt cx="6375600" cy="5421240"/>
            </a:xfrm>
          </p:grpSpPr>
          <p:graphicFrame>
            <p:nvGraphicFramePr>
              <p:cNvPr id="104" name=""/>
              <p:cNvGraphicFramePr/>
              <p:nvPr/>
            </p:nvGraphicFramePr>
            <p:xfrm>
              <a:off x="3132000" y="981000"/>
              <a:ext cx="6375600" cy="54212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05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3132000" y="981000"/>
                        <a:ext cx="6375600" cy="5421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06" name=""/>
              <p:cNvSpPr/>
              <p:nvPr/>
            </p:nvSpPr>
            <p:spPr>
              <a:xfrm>
                <a:off x="3132000" y="981000"/>
                <a:ext cx="6375600" cy="542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3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-181080" y="1197000"/>
              <a:ext cx="3673440" cy="52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Protocollo informatic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artografia tecnica e tematica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lavori pubblici e proget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llegamento a SI Territoriale (SIT)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Visure e certificazioni catastal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8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avoro occupazione collegamento al SIL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Datawarehouse business intelligenc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viluppo loc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7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risorse umane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libe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6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. RU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patrimonio immobilia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rezionale sanitari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economico-patrimoni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dur="indefinite" fill="hold">
                      <p:stCondLst>
                        <p:cond delay="0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" dur="500" fill="hold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 fill="hold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 fill="hold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 fill="hold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 fill="hold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esarina Motta</dc:creator>
  <dc:description/>
  <dc:language>en-US</dc:language>
  <cp:lastModifiedBy>Cesarina Motta</cp:lastModifiedBy>
  <cp:revision>0</cp:revision>
  <dc:subject/>
  <dc:title>Diapositiva 0</dc:title>
</cp:coreProperties>
</file>